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A7A3-2BD7-44FF-B8FE-25E162ECD19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hasn’t happened already, at some point in your programming career you will be asked to “port” some piece of code to some other “platform”. This could be as simple as re-compiling and linking using different compiler and linker options, checking-off a box, and calling it a day. Or it could constitute a total re-write of virtually every line of the code. The amount of resources required to “port” any given piece of code to a different “platform” can be largely dependent on the amount of fore-thought that went into the initial design of the project and the development tools used. If multiple platforms are to be supported simultaneously (as opposed to permanently migrating from one platform to another), it is highly desirable to use a single source code base for all supported platforms. This is called “Cross-Platform Development” and is the subject of today’s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GUI facilities. XPDEV was created out of necessity and contains only the facilities required by the Synchronet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Project with a single code base that supports multiple permutations of any of these three things, you have yourself a “Cross-platform” software development project. Will will focus mainly on differences between Operating Systems and Build Environmen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personally been involved in cross-platform development projects for the following operating systems: DOS (16 and 32-bit), Windows 3.x, OS/2, Windows 9x, Windows NT (including 2000 and XP), Windows CE (including MSTV), VxWorks, PSOS, Virtex, Linux (desktop and embedded for x86 and MIPS architectures), and FreeBS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printf() portable? Answer: “Yes and No”. Most kernels don’t allow printfs, so kernel-level code cannot typically contain any printfs. GUI applications do not typically have any facility for printf output (standard ou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this isn’t portable, what is? The answer of course, depends. What’s the expected range of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son for this discrepancy will be obvious to many of you familiar with Borland’s heritage. Borland C++ version 3 targeted the MS-DOS platform, which is 16-bit. In C, an int is typically the size of a register on the target CPU, which in this case, is 16-bits, which has a maximum positive value of 32767. Borland C++ 5.5 targets the Win32 platform so it uses a 32-bit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operating system, architecture, or build environment issue? I would argue it’s a build environment issue as it is ultimately up to the compiler to do determine the bit-width of an int. There certainly </a:t>
            </a:r>
            <a:r>
              <a:rPr b="1" lang="en-US" sz="1200" spc="-1" strike="noStrike">
                <a:solidFill>
                  <a:srgbClr val="000000"/>
                </a:solidFill>
                <a:latin typeface="Arial"/>
              </a:rPr>
              <a:t>could</a:t>
            </a:r>
            <a:r>
              <a:rPr b="0" lang="en-US" sz="1200" spc="-1" strike="noStrike">
                <a:solidFill>
                  <a:srgbClr val="000000"/>
                </a:solidFill>
                <a:latin typeface="Arial"/>
              </a:rPr>
              <a:t> be a compiler for 16-bit architectures that use 32-bit 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ll cover solutions to this type of problem later in th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one simple example of one of the many issues involved in cross-platform development. </a:t>
            </a:r>
            <a:r>
              <a:rPr b="0" lang="en-US" sz="1200" spc="-1" strike="noStrike">
                <a:solidFill>
                  <a:srgbClr val="000000"/>
                </a:solidFill>
                <a:latin typeface="Arial"/>
                <a:ea typeface="Times New Roman"/>
              </a:rPr>
              <a:t>Cross-platform development includes many issues with many possible solutions.</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We’ll be covering a variety of solutions to the most common issues. It is likely your project will require solutions to issues not discussed here, but hopefully you will leave here today with a clear understanding of how to resolve those issues with solutions from Borland and the Open Source Communit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bout “A Book on C” examp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R is a C run-time library that abstracts the common system calls and standard library calls for Windows, Macintosh, and various flavors of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X is a C++ framework that abstracts the common system calls and standard library calls, as well as GUI APIs. VisualCLX is actually based on Q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152E7-9397-44C7-9981-3FA53A3E8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723CB-58AB-4C19-AA3E-49D5D4AA0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CAF68-207A-45D3-AD8E-47D49E7E5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DC039-0C84-4943-81B4-06F0D6372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96474-8D85-4E82-98BC-6242E2EEA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425BF-1498-4D9A-ACF8-1A89924BC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6E287-A48F-4DAF-9810-711C01557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52417-BA83-4D35-B5DA-DB392E572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33C7C-6D71-4987-AA27-BD76D589B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DECBE-09BD-45BE-87E5-8AE273651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0DFC5-0499-4247-8922-2DE23EF51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83616-F145-4C7F-BA44-E3A946E4D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74FD1-D99C-41C2-B4C0-83FD7EECD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37DE4-FC73-4FA5-8944-F38327499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30786-B012-4538-8735-638A96FAD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A20017-09B8-4D2B-B68B-12D3C16291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813A3-3EE3-498F-AF4F-213211403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6EC1D-9612-4D6E-843C-AD9A2EAE8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332AC-0CDE-40F8-AD58-92CDC02A4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50E4D-7484-4C55-90D6-B37F52ABB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5919D-FD2A-45AC-A0F1-0F15E3840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D01EB-35EF-4B08-92C6-8013860BF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5ED18-0A92-420F-8BEF-D476AC9C5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94C2E-7724-4F46-898F-2E13AF131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B70E-5EA6-4DA9-B9CE-E11296610DC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B7D9-8081-48E4-A2FF-BA0BDAD894C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oss-Platform Development with C and C++</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conference Tutorial b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 Swind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nchronet XPDEV</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 library for cross-platform developmen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 source (cvs.synchro.net)</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GPL licensed</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 and modula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ilizes a combination of abstraction and emulation</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Microsoft, and GNU tool chains</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s Win32, Linux, and FreeBSD</a:t>
            </a: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Win32 API functions on Unix (_beginthread)</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ome DOS/conio functions on Unix (getch)</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POSIX functions on Windows</a:t>
            </a:r>
            <a:r>
              <a:rPr b="0" lang="en-US" sz="2000" spc="-1" strike="noStrike">
                <a:solidFill>
                  <a:srgbClr val="000000"/>
                </a:solidFill>
                <a:latin typeface="Tahoma"/>
                <a:ea typeface="Arial"/>
              </a:rPr>
              <a:t> (sem_init)</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Unix libc functions on Windows (glob)</a:t>
            </a:r>
            <a:r>
              <a:rPr b="0" lang="en-US" sz="2000" spc="-1" strike="noStrike">
                <a:solidFill>
                  <a:srgbClr val="000000"/>
                </a:solidFill>
                <a:latin typeface="Tahoma"/>
                <a:ea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le System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elimiters and drive letter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name case sensitivity and length limit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xt line termination sequences (LF vs CRLF)</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dcard expansion</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tecture</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diannes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rocessor</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byte character sets/Internationalization</a:t>
            </a:r>
            <a:endParaRPr b="0" lang="en-US" sz="2400" spc="-1" strike="noStrike">
              <a:solidFill>
                <a:srgbClr val="000000"/>
              </a:solidFill>
              <a:latin typeface="Tahoma"/>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Windows CE uses Unicode on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iler Issu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er bit-width</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nion packing and alignment</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agmas and language extensions</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and-line switches (some are standard)</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 formats (COFF, ELF, OMF)</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 files (.o vs .obj)</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brary files (.a vs .lib, .so vs .dll)</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function name mangling/decorating</a:t>
            </a:r>
            <a:endParaRPr b="0" lang="en-US" sz="28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lling conventions (__cdecl vs __stdcal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uild Issues</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ke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and GNU makefile syntax are not compati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make “include” files to reuse build rules and log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fi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specific</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ipt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ly, operating system specifi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ication Configuration</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has no “Windows Registr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onfiguration (.ini) files instea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X TMemIniFile componen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uses well-known files for system configurat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host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resolv.con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ice Issu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dware-enabled applications are difficult to develop cross-platfor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access facilities are operating system depend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oss-platform kernel-level (device driver) development can be very challenging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ariably requires platform-specific modu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emingly unified platforms (e.g. Win32, Unix) are distinctly different at the kernel le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ing existing cross-platform emulation and abstraction librar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X, Qt, NSPR, Cygwin, Synchronet XPDEV</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itional compilation using the C/C++ preprocessor</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defined(_WIN32)</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linux__)</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if defined(__unix__)</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s (continued)</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rget-specific header files defining platform-dependent macro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unix/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win32/guiwrap.h</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ath determines which macros are defined</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iling target-specific source module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unix/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rc/win32/getproc.c</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file determines which source files are buil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45" name="PlaceHolder 2"/>
          <p:cNvSpPr>
            <a:spLocks noGrp="1"/>
          </p:cNvSpPr>
          <p:nvPr>
            <p:ph/>
          </p:nvPr>
        </p:nvSpPr>
        <p:spPr>
          <a:xfrm>
            <a:off x="837720" y="2590920"/>
            <a:ext cx="7620120" cy="3541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Cross-platform development projects can be challenging, fun, and reward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nk you for your time,</a:t>
            </a: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 Swindell (rob@synchro.ne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latform</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 (Windows, Linux, FreeBS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x86, 68K, IA64, PowerPC, MIPS, ARM)</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environ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n-time libraries (libc, glibc, MFC, VCL, CLX)</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il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e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ild tools (make, 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erating System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ndows</a:t>
            </a:r>
            <a:endParaRPr b="0" lang="en-US" sz="28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16</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32</a:t>
            </a:r>
            <a:endParaRPr b="0" lang="en-US" sz="2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95/98/Me</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NT/2000/XP</a:t>
            </a:r>
            <a:endParaRPr b="0" lang="en-US" sz="20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CE</a:t>
            </a:r>
            <a:endParaRPr b="0" lang="en-US" sz="20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64</a:t>
            </a:r>
            <a:endParaRPr b="0" lang="en-US" sz="24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x variants</a:t>
            </a:r>
            <a:endParaRPr b="0" lang="en-US" sz="2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NU/Linu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SD (BSD/OS, FreeBSD, NetBSD, OpenBSD, OS-X)</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X, Solaris, Xenix, HP-UX, etc.</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ility</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Portable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ippery term, use with cau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ble to whe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potential</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ross-platform source cod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ferred term</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cates </a:t>
            </a:r>
            <a:r>
              <a:rPr b="0" i="1" lang="en-US" sz="2400" spc="-1" strike="noStrike">
                <a:solidFill>
                  <a:srgbClr val="000000"/>
                </a:solidFill>
                <a:latin typeface="Tahoma"/>
              </a:rPr>
              <a:t>statu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printf() porta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table?</a:t>
            </a:r>
            <a:endParaRPr b="0" lang="en-US" sz="4400" spc="-1" strike="noStrike">
              <a:solidFill>
                <a:srgbClr val="333399"/>
              </a:solidFill>
              <a:latin typeface="Tahoma"/>
            </a:endParaRPr>
          </a:p>
        </p:txBody>
      </p:sp>
      <p:sp>
        <p:nvSpPr>
          <p:cNvPr id="115" name=""/>
          <p:cNvSpPr/>
          <p:nvPr/>
        </p:nvSpPr>
        <p:spPr>
          <a:xfrm>
            <a:off x="609480" y="1981080"/>
            <a:ext cx="79250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sum(int a, int b)</a:t>
            </a:r>
            <a:br>
              <a:rPr sz="2400"/>
            </a:br>
            <a:r>
              <a:rPr b="0" lang="en-US" sz="2400" spc="-1" strike="noStrike">
                <a:solidFill>
                  <a:srgbClr val="000000"/>
                </a:solidFill>
                <a:latin typeface="Courier New"/>
              </a:rPr>
              <a:t>{ </a:t>
            </a:r>
            <a:br>
              <a:rPr sz="2400"/>
            </a:br>
            <a:r>
              <a:rPr b="0" lang="en-US" sz="2400" spc="-1" strike="noStrike">
                <a:solidFill>
                  <a:srgbClr val="000000"/>
                </a:solidFill>
                <a:latin typeface="Courier New"/>
              </a:rPr>
              <a:t>	</a:t>
            </a:r>
            <a:r>
              <a:rPr b="0" lang="en-US" sz="2400" spc="-1" strike="noStrike">
                <a:solidFill>
                  <a:srgbClr val="000000"/>
                </a:solidFill>
                <a:latin typeface="Courier New"/>
              </a:rPr>
              <a:t>return a+b; </a:t>
            </a:r>
            <a:br>
              <a:rPr sz="2400"/>
            </a:b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116"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5.5 results:</a:t>
            </a:r>
            <a:r>
              <a:rPr b="0" lang="en-US" sz="2400" spc="-1" strike="noStrike">
                <a:solidFill>
                  <a:srgbClr val="000000"/>
                </a:solidFill>
                <a:latin typeface="Courier New"/>
              </a:rPr>
              <a:t> sum=64197</a:t>
            </a:r>
            <a:endParaRPr b="0" lang="en-US" sz="2400" spc="-1" strike="noStrike">
              <a:solidFill>
                <a:srgbClr val="000000"/>
              </a:solidFill>
              <a:latin typeface="Arial"/>
            </a:endParaRPr>
          </a:p>
        </p:txBody>
      </p:sp>
      <p:sp>
        <p:nvSpPr>
          <p:cNvPr id="117" name=""/>
          <p:cNvSpPr/>
          <p:nvPr/>
        </p:nvSpPr>
        <p:spPr>
          <a:xfrm>
            <a:off x="685800" y="3429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400" spc="-1" strike="noStrike">
                <a:solidFill>
                  <a:srgbClr val="000000"/>
                </a:solidFill>
                <a:latin typeface="Courier New"/>
              </a:rPr>
              <a:t>printf(“sum=%d”,sum(9876,54321));</a:t>
            </a:r>
            <a:endParaRPr b="0" lang="en-US" sz="2400" spc="-1" strike="noStrike">
              <a:solidFill>
                <a:srgbClr val="000000"/>
              </a:solidFill>
              <a:latin typeface="Arial"/>
            </a:endParaRPr>
          </a:p>
        </p:txBody>
      </p:sp>
      <p:sp>
        <p:nvSpPr>
          <p:cNvPr id="118" name=""/>
          <p:cNvSpPr/>
          <p:nvPr/>
        </p:nvSpPr>
        <p:spPr>
          <a:xfrm>
            <a:off x="1066680" y="533412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is an Operating System, Architecture, or Build Environment issue?</a:t>
            </a:r>
            <a:endParaRPr b="0" lang="en-US" sz="2400" spc="-1" strike="noStrike">
              <a:solidFill>
                <a:srgbClr val="000000"/>
              </a:solidFill>
              <a:latin typeface="Arial"/>
            </a:endParaRPr>
          </a:p>
        </p:txBody>
      </p:sp>
      <p:sp>
        <p:nvSpPr>
          <p:cNvPr id="119" name=""/>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rland C++ 3.1 results:</a:t>
            </a:r>
            <a:r>
              <a:rPr b="0" lang="en-US" sz="2400" spc="-1" strike="noStrike">
                <a:solidFill>
                  <a:srgbClr val="000000"/>
                </a:solidFill>
                <a:latin typeface="Courier New"/>
              </a:rPr>
              <a:t> sum=-133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evelop Cross-platform?</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d market opportun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ncourages modular desig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Help expose bug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Keep code standards-compliant</a:t>
            </a:r>
            <a:r>
              <a:rPr b="0" lang="en-US" sz="2400" spc="-1" strike="noStrike">
                <a:solidFill>
                  <a:srgbClr val="000000"/>
                </a:solidFill>
                <a:latin typeface="Tahoma"/>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ng to a new development environment</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ndoning old environment</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 Standard Run-time Library</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I/ISO</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ndard C++ Library</a:t>
            </a:r>
            <a:endParaRPr b="0" lang="en-US" sz="18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X.1 (IEEE Standard 1003.1)</a:t>
            </a:r>
            <a:endParaRPr b="0" lang="en-US" sz="20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A – Base Unix API</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B – Real-time extension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tion C – Threads</a:t>
            </a:r>
            <a:endParaRPr b="0" lang="en-US" sz="1800" spc="-1" strike="noStrike">
              <a:solidFill>
                <a:srgbClr val="000000"/>
              </a:solidFill>
              <a:latin typeface="Tahoma"/>
            </a:endParaRPr>
          </a:p>
          <a:p>
            <a:pPr lvl="2" marL="1108440" indent="-221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OSIX Libraries exist for Win32</a:t>
            </a:r>
            <a:r>
              <a:rPr b="0" lang="en-US" sz="1800" spc="-1" strike="noStrike">
                <a:solidFill>
                  <a:srgbClr val="000000"/>
                </a:solidFill>
                <a:latin typeface="Tahoma"/>
              </a:rPr>
              <a:t> (commercial and open sourc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chniques (continued)</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Abstrac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SPR (Netscape Portable Run-time) [non-GUI] for C 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rland CLX (Component Library, Cross-platform) for 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t [C++ and GUI only]</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technologies are often referred to as </a:t>
            </a:r>
            <a:r>
              <a:rPr b="0" i="1" lang="en-US" sz="2000" spc="-1" strike="noStrike">
                <a:solidFill>
                  <a:srgbClr val="000000"/>
                </a:solidFill>
                <a:latin typeface="Tahoma"/>
              </a:rPr>
              <a:t>framewor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rgeting an Emulation Layer</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x/POSIX on Windows: Cygwin, UWIN, Interix</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ows on Unix: Winelib, Wind/U, Visual MainWi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S/conio on Unix/curses: libcon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rland CLX</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Component Library, Cross-platform</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Dual licensed</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Easy migration from VCL</a:t>
            </a:r>
            <a:endParaRPr b="0" lang="en-US" sz="24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L classes and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GUI components and data-aware visual control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CLX</a:t>
            </a:r>
            <a:endParaRPr b="0" lang="en-US" sz="2400" spc="-1" strike="noStrike">
              <a:solidFill>
                <a:srgbClr val="000000"/>
              </a:solidFill>
              <a:latin typeface="Tahoma"/>
            </a:endParaRPr>
          </a:p>
          <a:p>
            <a:pPr lvl="1" marL="698400" indent="-2685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scalable data-access components</a:t>
            </a:r>
            <a:endParaRPr b="0" lang="en-US" sz="2000" spc="-1" strike="noStrike">
              <a:solidFill>
                <a:srgbClr val="000000"/>
              </a:solidFill>
              <a:latin typeface="Tahoma"/>
            </a:endParaRPr>
          </a:p>
          <a:p>
            <a:pPr marL="322200" indent="-3222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NetCLX</a:t>
            </a:r>
            <a:endParaRPr b="0" lang="en-US" sz="2400" spc="-1" strike="noStrike">
              <a:solidFill>
                <a:srgbClr val="000000"/>
              </a:solidFill>
              <a:latin typeface="Tahoma"/>
            </a:endParaRPr>
          </a:p>
          <a:p>
            <a:pPr lvl="1" marL="698400" indent="-2685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eb application framework and components</a:t>
            </a:r>
            <a:r>
              <a:rPr b="0" lang="en-US" sz="2800" spc="-1" strike="noStrike">
                <a:solidFill>
                  <a:srgbClr val="000000"/>
                </a:solidFill>
                <a:latin typeface="Arial"/>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2T21:56:52Z</dcterms:created>
  <dc:creator>swindell</dc:creator>
  <dc:description/>
  <dc:language>en-US</dc:language>
  <cp:lastModifiedBy>swindell</cp:lastModifiedBy>
  <dcterms:modified xsi:type="dcterms:W3CDTF">2002-05-17T01:21:47Z</dcterms:modified>
  <cp:revision>125</cp:revision>
  <dc:subject/>
  <dc:title>Cross-Platform Development with C and C++</dc:title>
</cp:coreProperties>
</file>