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EFD91-5BE3-45DD-8C97-D38F81D04047}"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hasn’t happened already, at some point in your programming career you will be asked to “port” some piece of code to some other “platform”. This could be as simple as re-compiling and linking using different compiler and linker options, checking-off a box, and calling it a day. Or it could constitute a total re-write of virtually every line of the code. The amount of resources required to “port” any given piece of code to a different “platform” can be largely dependent on the amount of fore-thought that went into the initial design of the project and the development tools used. If multiple platforms are to be supported simultaneously (as opposed to permanently migrating from one platform to another), it is highly desirable to use a single source code base for all supported platforms. This is called “Cross-Platform Development” and is the subject of today’s tutori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UI facilities. XPDEV was created out of necessity and contains only the facilities required by the Synchronet proj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Project with a single code base that supports multiple permutations of any of these three things, you have yourself a “Cross-platform” software development project. Will will focus mainly on differences between Operating Systems and Build Environ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personally been involved in cross-platform development projects for the following operating systems: DOS (16 and 32-bit), Windows 3.x, OS/2, Windows 9x, Windows NT (including 2000 and XP), Windows CE (including MSTV), VxWorks, PSOS, Virtex, Linux (desktop and embedded for x86 and MIPS architectures), and FreeBS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printf() portable? Answer: “Yes and No”. Most kernels don’t allow printfs, so kernel-level code cannot typically contain any printfs. GUI applications do not typically have any facility for printf output (standard ou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this isn’t portable, what is? The answer of course, depends. What’s the expected range of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son for this discrepancy will be obvious to many of you familiar with Borland’s heritage. Borland C++ version 3 targeted the MS-DOS platform, which is 16-bit. In C, an int is typically the size of a register on the target CPU, which in this case, is 16-bits, which has a maximum positive value of 32767. Borland C++ 5.5 targets the Win32 platform so it uses a 32-bit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operating system, architecture, or build environment issue? I would argue it’s a build environment issue as it is ultimately up to the compiler to do determine the bit-width of an int. There certainly </a:t>
            </a:r>
            <a:r>
              <a:rPr b="1" lang="en-US" sz="1200" spc="-1" strike="noStrike">
                <a:solidFill>
                  <a:srgbClr val="000000"/>
                </a:solidFill>
                <a:latin typeface="Arial"/>
              </a:rPr>
              <a:t>could</a:t>
            </a:r>
            <a:r>
              <a:rPr b="0" lang="en-US" sz="1200" spc="-1" strike="noStrike">
                <a:solidFill>
                  <a:srgbClr val="000000"/>
                </a:solidFill>
                <a:latin typeface="Arial"/>
              </a:rPr>
              <a:t> be a compiler for 16-bit architectures that use 32-bit 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e’ll cover solutions to this type of problem later in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one simple example of one of the many issues involved in cross-platform development. </a:t>
            </a:r>
            <a:r>
              <a:rPr b="0" lang="en-US" sz="1200" spc="-1" strike="noStrike">
                <a:solidFill>
                  <a:srgbClr val="000000"/>
                </a:solidFill>
                <a:latin typeface="Arial"/>
                <a:ea typeface="Times New Roman"/>
              </a:rPr>
              <a:t>Cross-platform development includes many issues with many possible solutions.</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We’ll be covering a variety of solutions to the most common issues. It is likely your project will require solutions to issues not discussed here, but hopefully you will leave here today with a clear understanding of how to resolve those issues with solutions from Borland and the Open Source Communit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bout “A Book on C” examp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PR is a C run-time library that abstracts the common system calls and standard library calls for Windows, Macintosh, and various flavors of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X is a C++ framework that abstracts the common system calls and standard library calls, as well as GUI APIs. VisualCLX is actually based on Q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2B536F-B701-445B-A938-446B01B0B4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480A6-7F11-432F-AED8-37A0A38C6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9D20CF-CDCE-4872-BDC2-E3A3F42D52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B5BA20-B610-4F6B-8C2B-2AA5E1B749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4908AC-D178-4782-B00D-E497A08245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3F6B8B-F8C7-432B-A705-E3D7331F12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FEB1A4-6D08-4729-99B0-6587CD051D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B919CF-87BD-4AA7-9E4F-EBF70FF0FF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76E93E-7031-41A0-AE7D-E7E6D1201A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8AC56D-A2D9-4DE8-9209-956C63ABC1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2784E1-252E-4EEF-A04C-BEAD278B2F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C6DA4-27FC-40C7-82F4-ECBC7C5E7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DF08E-CC14-46F1-A7AD-810532FA45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C344A8-21DB-46ED-BCB2-F0EDCD216C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45CCC9-B846-470A-A794-F03B56F4ED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81D60D-B6B9-40DF-9FC9-227B8158A9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F1CEDE-C7B1-4755-89A1-06C228D0A1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921E2-5077-4414-A6C8-441B1A609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66C94-DAEE-4CBE-BC87-D09D3E83E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2259A-55D3-41EF-B02B-8BC8E049D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12499-1F4C-4ED7-8BA8-5310D6BBE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17E1A-D6A4-4D87-8BBB-84C4627A0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2118F-DDD9-4C67-8EC7-2F0983949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2A1D8-D0B4-403C-9C13-A52E3F9301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DAF1E-E244-4865-9562-D97C3C82A78D}"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10209-BBE9-4D0E-90BB-D1E52D2D766D}"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oss-Platform Development with C and C++</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conference Tutorial by</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b Swindel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nchronet XPDEV</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 library for cross-platform developmen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source (cvs.synchro.ne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GPL licens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and modular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ilizes a combination of abstraction and emulation</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Microsoft, and GNU tool chain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s Win32, Linux, and FreeBSD</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Win32 API functions on Unix (_beginthread)</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DOS/conio functions on Unix (getch)</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POSIX functions on Windows</a:t>
            </a:r>
            <a:r>
              <a:rPr b="0" lang="en-US" sz="2000" spc="-1" strike="noStrike">
                <a:solidFill>
                  <a:srgbClr val="000000"/>
                </a:solidFill>
                <a:latin typeface="Tahoma"/>
                <a:ea typeface="Arial"/>
              </a:rPr>
              <a:t> (sem_init)</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Unix libc functions on Windows (glob)</a:t>
            </a:r>
            <a:r>
              <a:rPr b="0" lang="en-US" sz="2000" spc="-1" strike="noStrike">
                <a:solidFill>
                  <a:srgbClr val="000000"/>
                </a:solidFill>
                <a:latin typeface="Tahoma"/>
                <a:ea typeface="Arial"/>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sue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System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delimiters and drive letter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name case sensitivity and length limit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t line termination sequences (LF vs CRLF)</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card expansion</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tecture</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iannes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rocessor</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byte character sets/Internationalization</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Windows CE uses Unicode on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iler Issues</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er bit-width</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nion packing and alignment</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gmas and language extensio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line switches (some are standard)</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 formats (COFF, ELF, OMF)</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s (.o vs .obj)</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brary files (.a vs .lib, .so vs .dll)</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function name mangling/decorating</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ing conventions (__cdecl vs __stdcal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ild Issues</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and GNU makefile syntax are not compati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make “include” files to reuse build rules and log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specif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ip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ly, operating system specifi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ication Configuration</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has no “Windows Registr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onfiguration (.ini) files instea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LX TMemIniFile compon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uses well-known files for system configurat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hos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resolv.con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vice Issue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ware-enabled applications are difficult to develop cross-platfor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ice access facilities are operating system depend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platform kernel-level (device driver) development can be very challenging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ariably requires platform-specific modu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mingly unified platforms (e.g. Win32, Unix) are distinctly different at the kernel lev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existing cross-platform emulation and abstraction librar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X, Qt, NSPR, Cygwin, Synchronet XPDEV</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al compilation using the C/C++ preprocesso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defined(_WIN32)</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linux__)</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unix__)</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 (continued)</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specific header files defining platform-dependent macro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unix/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win32/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path determines which macros are defined</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ing target-specific source module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unix/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win32/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file determines which source files are buil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endParaRPr b="0" lang="en-US" sz="4400" spc="-1" strike="noStrike">
              <a:solidFill>
                <a:srgbClr val="333399"/>
              </a:solidFill>
              <a:latin typeface="Tahoma"/>
            </a:endParaRPr>
          </a:p>
        </p:txBody>
      </p:sp>
      <p:sp>
        <p:nvSpPr>
          <p:cNvPr id="145" name="PlaceHolder 2"/>
          <p:cNvSpPr>
            <a:spLocks noGrp="1"/>
          </p:cNvSpPr>
          <p:nvPr>
            <p:ph/>
          </p:nvPr>
        </p:nvSpPr>
        <p:spPr>
          <a:xfrm>
            <a:off x="837720" y="2590920"/>
            <a:ext cx="7620120" cy="3541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ross-platform development projects can be challenging, fun, and rewarding!</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nk you for your time,</a:t>
            </a:r>
            <a:endParaRPr b="0" lang="en-US" sz="3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 Swindell (rob@synchro.ne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tform</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ng System (Windows, Linux, FreeBS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e (x86, 68K, IA64, PowerPC, MIPS, AR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environ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libraries (libc, glibc, MFC, VCL, CLX)</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tools (make, 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ting System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dow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16</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32</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95/98/Me</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NT/2000/XP</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CE</a:t>
            </a:r>
            <a:endParaRPr b="0" lang="en-US" sz="20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64</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variants</a:t>
            </a:r>
            <a:endParaRPr b="0" lang="en-US" sz="28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NU/Linu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SD (BSD/OS, FreeBSD, NetBSD, OpenBSD, OS-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X, Solaris, Xenix, HP-UX, et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ility</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Portable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ippery term, use with cau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ble to whe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potentia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Cross-platform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ferred ter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statu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printf() por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le?</a:t>
            </a:r>
            <a:endParaRPr b="0" lang="en-US" sz="4400" spc="-1" strike="noStrike">
              <a:solidFill>
                <a:srgbClr val="333399"/>
              </a:solidFill>
              <a:latin typeface="Tahoma"/>
            </a:endParaRPr>
          </a:p>
        </p:txBody>
      </p:sp>
      <p:sp>
        <p:nvSpPr>
          <p:cNvPr id="115" name=""/>
          <p:cNvSpPr/>
          <p:nvPr/>
        </p:nvSpPr>
        <p:spPr>
          <a:xfrm>
            <a:off x="609480" y="1981080"/>
            <a:ext cx="79250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sum(int a, int b)</a:t>
            </a:r>
            <a:br>
              <a:rPr sz="2400"/>
            </a:b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r>
              <a:rPr b="0" lang="en-US" sz="2400" spc="-1" strike="noStrike">
                <a:solidFill>
                  <a:srgbClr val="000000"/>
                </a:solidFill>
                <a:latin typeface="Courier New"/>
              </a:rPr>
              <a:t>return a+b; </a:t>
            </a:r>
            <a:br>
              <a:rPr sz="2400"/>
            </a:b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16" name=""/>
          <p:cNvSpPr/>
          <p:nvPr/>
        </p:nvSpPr>
        <p:spPr>
          <a:xfrm>
            <a:off x="609480" y="419112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5.5 results:</a:t>
            </a:r>
            <a:r>
              <a:rPr b="0" lang="en-US" sz="2400" spc="-1" strike="noStrike">
                <a:solidFill>
                  <a:srgbClr val="000000"/>
                </a:solidFill>
                <a:latin typeface="Courier New"/>
              </a:rPr>
              <a:t> sum=64197</a:t>
            </a:r>
            <a:endParaRPr b="0" lang="en-US" sz="2400" spc="-1" strike="noStrike">
              <a:solidFill>
                <a:srgbClr val="000000"/>
              </a:solidFill>
              <a:latin typeface="Arial"/>
            </a:endParaRPr>
          </a:p>
        </p:txBody>
      </p:sp>
      <p:sp>
        <p:nvSpPr>
          <p:cNvPr id="117" name=""/>
          <p:cNvSpPr/>
          <p:nvPr/>
        </p:nvSpPr>
        <p:spPr>
          <a:xfrm>
            <a:off x="685800" y="3429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printf(“sum=%d”,sum(9876,54321));</a:t>
            </a:r>
            <a:endParaRPr b="0" lang="en-US" sz="2400" spc="-1" strike="noStrike">
              <a:solidFill>
                <a:srgbClr val="000000"/>
              </a:solidFill>
              <a:latin typeface="Arial"/>
            </a:endParaRPr>
          </a:p>
        </p:txBody>
      </p:sp>
      <p:sp>
        <p:nvSpPr>
          <p:cNvPr id="118" name=""/>
          <p:cNvSpPr/>
          <p:nvPr/>
        </p:nvSpPr>
        <p:spPr>
          <a:xfrm>
            <a:off x="1066680" y="533412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is an Operating System, Architecture, or Build Environment issue?</a:t>
            </a:r>
            <a:endParaRPr b="0" lang="en-US" sz="2400" spc="-1" strike="noStrike">
              <a:solidFill>
                <a:srgbClr val="000000"/>
              </a:solidFill>
              <a:latin typeface="Arial"/>
            </a:endParaRPr>
          </a:p>
        </p:txBody>
      </p:sp>
      <p:sp>
        <p:nvSpPr>
          <p:cNvPr id="119" name=""/>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3.1 results:</a:t>
            </a:r>
            <a:r>
              <a:rPr b="0" lang="en-US" sz="2400" spc="-1" strike="noStrike">
                <a:solidFill>
                  <a:srgbClr val="000000"/>
                </a:solidFill>
                <a:latin typeface="Courier New"/>
              </a:rPr>
              <a:t> sum=-13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Develop Cross-platform?</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d market opportun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ncourages modular desig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Help expose bu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Keep code standards-compliant</a:t>
            </a:r>
            <a:r>
              <a:rPr b="0" lang="en-US" sz="2400" spc="-1" strike="noStrike">
                <a:solidFill>
                  <a:srgbClr val="000000"/>
                </a:solidFill>
                <a:latin typeface="Tahoma"/>
                <a:ea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ing to a new development environment</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ndoning old environment</a:t>
            </a:r>
            <a:endParaRPr b="0" lang="en-US" sz="20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 Standard Run-time Library</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I/ISO</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X.1 (IEEE Standard 1003.1)</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A – Base Unix API</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B – Real-time extension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C – Thread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OSIX Libraries exist for Win32</a:t>
            </a:r>
            <a:r>
              <a:rPr b="0" lang="en-US" sz="1800" spc="-1" strike="noStrike">
                <a:solidFill>
                  <a:srgbClr val="000000"/>
                </a:solidFill>
                <a:latin typeface="Tahoma"/>
              </a:rPr>
              <a:t> (commercial and open sour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 (continued)</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Abstrac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PR (Netscape Portable Run-time) [non-GUI] for C 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rland CLX (Component Library, Cross-platform) f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t [C++ and GUI on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technologies are often referred to as </a:t>
            </a:r>
            <a:r>
              <a:rPr b="0" i="1" lang="en-US" sz="2000" spc="-1" strike="noStrike">
                <a:solidFill>
                  <a:srgbClr val="000000"/>
                </a:solidFill>
                <a:latin typeface="Tahoma"/>
              </a:rPr>
              <a:t>framewor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Emula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x/POSIX on Windows: Cygwin, UWIN, Interix</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on Unix: Winelib, Wind/U, Visual MainWi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S/conio on Unix/curses: libcon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rland CLX</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Component Library, Cross-platform</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Dual licensed</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asy migration from VCL</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L classes and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ive GUI components and data-aware visual control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scalable data-access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NetCLX</a:t>
            </a:r>
            <a:endParaRPr b="0" lang="en-US" sz="24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eb application framework and components</a:t>
            </a:r>
            <a:r>
              <a:rPr b="0" lang="en-US" sz="2800" spc="-1" strike="noStrike">
                <a:solidFill>
                  <a:srgbClr val="000000"/>
                </a:solidFill>
                <a:latin typeface="Arial"/>
                <a:ea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21:56:52Z</dcterms:created>
  <dc:creator>swindell</dc:creator>
  <dc:description/>
  <dc:language>en-US</dc:language>
  <cp:lastModifiedBy>swindell</cp:lastModifiedBy>
  <dcterms:modified xsi:type="dcterms:W3CDTF">2002-05-17T01:21:47Z</dcterms:modified>
  <cp:revision>125</cp:revision>
  <dc:subject/>
  <dc:title>Cross-Platform Development with C and C++</dc:title>
</cp:coreProperties>
</file>